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F7B0-49A2-49F1-9B36-12524F386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-bit signed format is in the form of one signed bit, four int bits, and eight fraction bits, giving a dynamic range of +- 16.0, where a current card has a range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 show how clampling to 0-16 enhances image quality without much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iterated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bright lighting used with only one texture. Iterated diffuse color is clamped to a larger range through rampage pipe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ly bright lights turn most objects, white (wash out), almost regardless or surface color or light col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s: Surfaces/lights that are pure Red, Green or Blue. Police car lights are an example here. (Co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ent light is still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 purple light turns an object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ling Gary’s idea of giving away big money prizes to keep people interested in the 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image is created by traditional hardware. Overbright purple light gets clamped at 1.0, creating a non-overbright white light, causing the object to appear green instead of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n astetic point of view, Left image is the “right one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Four lines of code. One enabling larger clamp range in hardwa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hree for changing the clamp value to 0-15.ff instead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from a top-selling movi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uter gen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d washed-out area in the background. Notice blurring of detail because of the high intensity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 Halo Demo now. Point out key features. Mentioned “exaggerated effect” to be noticable on a low-res projection moni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HALO D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g running four-pass, voodoo3, eight textures to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through each of the textures, one by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Surface Tex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Reflection map/gloss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Environment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This was shown at TI 1998 (Verify with Gar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is Fu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multiple lightmap demo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cene (not a CGI scene), shows how to use the borg effect on a more day to day sce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 pavement. Wet pavement at night is used a lot in moves: it looks a lot better than dry pa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ed diffuse light map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map, for moist areas. Alpha channel could indicate where puddles a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r environment map. May also need a detail map. Could be a bump env.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map, applied to puddles.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ultiple projection/ reflection maps, for all the lights at different 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eneration Video engine includes enhanced MPEG support, better Scaling, Flicker filtering, advanced deinterlaced filtering (above bob or weave), and temporal fil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running predator demo, then NPR rendering demos, while showing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ox G400 already does 1-level recursion, for environment bump mapping. Rampage’s much more flexible. BumpEnv mapping is a subset of recursive textu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riginal npr.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soft shadow demo during this slide, to show what single-light source shadows can look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textures, completely independant, regardless of filtering type or number of pixel pipes, or whether AA is turned on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ors. Multiple iterators used for iterating non-colors: Normals, transform matric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ion means using output of pixel shader to modify texture address coordinates, similar to a cpu’s index addressing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ure computer is our version of a pixel sh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hilosophy: textures are multi-dimensional arrays, useful as surface data, light data,1D and 2D 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round quad operand : (A+/-B)*C+D. Can build blends, macs, other ops out of this basic fuc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ased multiplexing useful for clamping, piecewise linear functions, min/max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show off uses for the compare based multiplexing and output summing in demo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movie loop at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able Anisotropic means with enough precision and enough taps and precision to give the sharpest possible images possible, with no aliasing artifacts dur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ing type orthogonal to all other operations, number of texutres, shading modes, etc. Allows for easy integration into any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128 taps, real images show only a 50% performance drop from bilin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to trilinear, since trilinear blurs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BB7-EE7F-4A86-9CD0-25B2D9A6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649-B18C-482E-8395-A3367F0E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323-2246-477F-A1C3-C20EFAD6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048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480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119-995F-4A2E-A754-7A7BE0D9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399-3B07-4769-8D11-DE4BDAA2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997-4EEB-4326-90A8-0B4B3B3C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12A-DDD8-41BD-ADF2-33AC6957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097-D515-424A-9EDB-E8E680CD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151920"/>
            <a:ext cx="6933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E7C-FD9A-4B69-8671-653DA72B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0AB-6537-45BF-B130-703BD286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245-55BE-4702-9524-2E42BBA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71C-7D83-4B22-9E7C-1A338E5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mersion1" descr="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08C5-38AD-455B-A0E8-4F151B000B9A}" type="slidenum"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62720" y="655308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Proprietary and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Texturing and Shad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 Kilgariff, VP of Archite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@3dfx.co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3/9/00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Texture Computer/Pixel Shad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6440" y="1641600"/>
          <a:ext cx="756756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641600"/>
                    <a:ext cx="756756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E6E-8CE6-470F-90AF-7B1AB49114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Higher bit precision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3 bit signed colors (overbright color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duces darkening associated with multi-textur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“wash out” effect prevalent in cinema and vide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urface attenuations goes from 0 to 1.0, but light intensity can go from 0 to infinity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in scenes with sunlight or nighttime scen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Higher precision for environment bump mapping matrix multiply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ighting engine could easily be changed to clamp from 0 - 16 instead of 0-1 giving overbright iterated lighting automaticall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E1D-19EA-484A-B2D2-A58238F0DF2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Vertex Ligting: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t with White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230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1638360" cy="235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1692000" cy="241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366-7995-476C-AD0A-34277E47FF6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right Lights- 4x bright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.0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6.0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202752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2819520"/>
            <a:ext cx="2027160" cy="2415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FEB-7BD9-4CAF-9B89-A1284A5371C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lored Lights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urple” 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75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1692360" cy="241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1920960" cy="237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99E-8657-4DCB-8FCB-D21C8E4150F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Quiz Ques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12189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light gets much brighter (4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ich image does traditional HW generat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334120"/>
            <a:ext cx="7239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Follow up question: How many lines of code changed in the Lighting engine to generate the other im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1806840" cy="2468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195912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32F-49DB-4FCB-A657-ECF138EC438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Overbright Light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D84-922D-4C73-BE9A-A7CD8970A67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assive Multi-texturing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light maps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(Diffuse surface  * diffuse light) + (specular surface * specular light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pecular surface * iterated specular + (diffuse light * diffuse surface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ultiple specular maps and properties (water on pavement at night 6 textures)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projected text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possibly with its own shadow map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ise functions, other methods of combining textures to simulate physical mo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ater, fire, cloud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7F5-7044-4CF2-A3C2-C7B139AF0DC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Bor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Quiz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ow Many textures are used the surface of the cub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 up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t which year’s total immersion, was this demo first shown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-up Follow-up ques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at is resistanc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0AC-AA8D-4E44-9B3B-02F28966E65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Massive Multi-textur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D8C-BA1A-4D02-8AB1-4A41447F308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Rendering Engine (VTA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Video Engin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6M tri/sec, 800MP/sec, Single textured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ogrammable Sh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igher quality filt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-buffer based A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2 textures and Anisotropic with no performance hit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4 textures with no performance hi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calable Architecture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Integrated Bridge functionality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ull AGP Support in SLI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39B-6DA4-498F-B9D1-FBEC3815A6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Advanced Recurs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iffuse bump , specular bump, reflective bump maps comb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bump map disturbs coordinates of a different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 scaling of recursive data to make for subtle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neven tile floor, slightly distorted glas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bine bump maps together then recurs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ipples on water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mp maps affecting other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, 3 or 4 sets of recursions; fluids, turbulence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n-photo realistic rend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D52-160D-4FD5-81BB-5C3224CF63D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ultiple Shadow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hadow lights, Sum lights together, then modulate surfa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odified stencil buffer trick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’s Xor function, and ARGB channels to model up to four shadow source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exture chroma compare w/percentage passed used to identify when pixel is lit by light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bject ID based shadowing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hadow  map projected from light sourc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contains object ID of lit object in RGB channel.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rcentage passed to select in/ou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vanced Object ID shadowing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Projected texture: RGB contain light, Alpha Object ID of surface li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lpha channel used to  compare against Object ID, along with “never shadowing objects”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raditional chroma used to let light through or set to zero on a per-texel basi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822-82B6-4B50-BB59-0982C3C812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Shadow Demo 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F71-D2D4-4761-AFE1-0D87F63DB2F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iscellaneou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Iris effect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Do all lighting /texturing in 13 bit space, then use a constant color register to scale the range based on the average intensity of the imag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t Produc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hree term (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Four term (A0*A1 + 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in/Max aff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sed in Halo Dem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B02-323B-4C8D-8A04-FC16B48B2DE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combinations of up to eight textur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selection of filtering mod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-texel oper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texture computer with higher bit precis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mple address ops based on texture computer outpu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f course, this adds “flexibility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714-DA0C-44BC-8FBF-C4ECC91E51B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anks for the images &amp; Demo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enis Amsel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ubert Nguy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uman Meshki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eff Whi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ary Taroll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851-7B0B-448F-B394-CDFC05751E46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6080" y="1295280"/>
            <a:ext cx="75675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Multitexturing: 8 textures each with different filtering: point, bilinear, trilinear, anisotropic (up to 128-tap)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Iterators: 8 ARGBSTW iterators: one per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Recursion (Address ops) : recursion in parallel or series on up to 4 textures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ny combination of 4 recursions on the 8 available textures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ecursion allows one texture to perturb the values of another textur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wo recursion mod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Before and after W divid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pplicable for bump mapping and procedural textures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isc-like address op instruction model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ubic Environment Mapp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pres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DirectX/DXT (all formats) ,FXT1 compressed textur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YUV Texture format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43B-73D5-4423-8038-1DE6A9CE58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puter (Pixel Shad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flexible math capabilit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bine unit: (a+b)*c+d feeding..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...color combine unit: (A+B)*C+D where each abcd and ABCD can be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rom any of iterator, texture, previous, registered and constant valu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anipulated independently with: x, -x, 1-x and x-0.5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ompare based multiplexing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exture and color: combine unit: (a-b)? c:d an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bine unit output summ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+G+B may feed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color combine unit: .(a+b)*c+d, alpha and/or color channel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for intensity ops, dot product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egister based combin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Sum of products, products of sum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F64-0A23-4FD3-9F82-8ECDB7F380B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Larger color component preci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3 bits per componen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Precision maintained through alpha blender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pha Blender Logic Op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Quad pixel pipelin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pixels-per-clock single textured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/N pixels per clock for N textures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calable rendering: Up to four chips ganged together. No bridge chip required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Optimized Geometry Pipelin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Viewport Transforms and efficient host/graphics IO yield optimum performan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orks with (or without) Sage geometry co-processo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81A-0E96-4FE6-8548-4825E1188D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y do we need massive multi-texturing if we have T&amp;L?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2666520"/>
            <a:ext cx="6933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 pixel ligh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hadow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ultiple light and surface ma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odeling physical properties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89E-FD7C-4108-A4EA-41288C65B6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Each texture has totally independent programming stat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TG: Recursion Dat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Before Perspective correct divide or aft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ve data can be scaled by a power of 2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dress = Iterator + (offset &lt;&lt; n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on can be turned off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lter Contr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ipmapping contro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oint sampled, bilinear, trilinear, anisotropi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ne map of many can be anisotropic without slowing the other textur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through 128 tap filtering selectable per-texture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E31-56CE-40FC-B721-821FFA34B3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er-texel operations (texture chroma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hroma on value or ran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lexible RGB contro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GB compares can be replaced with Alpha (3 compares)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raditional chroma (replace with black) Chroma Replace, Percentage passed mod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ful for smooth chroma-key effects, shadows, etc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45F-D6F9-4C7B-AB25-0F4D31BC3A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6933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Anisotropic Filter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43434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ampage enables usable anisotropic filtering for the first time in a cost effective personal computer environ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r superior to trilinear filter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837360"/>
            <a:ext cx="3695760" cy="3296160"/>
            <a:chOff x="1523880" y="837360"/>
            <a:chExt cx="3695760" cy="329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523880" y="124740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669760" y="837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Trilin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837360"/>
            <a:ext cx="3695760" cy="3299400"/>
            <a:chOff x="5257800" y="837360"/>
            <a:chExt cx="3695760" cy="32994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257800" y="125064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494040" y="83736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Anisotrop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58D-03C4-4C89-9D47-5B1DF82AA11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3:29:20Z</dcterms:created>
  <dc:creator>3Dfx</dc:creator>
  <dc:description/>
  <dc:language>en-US</dc:language>
  <cp:lastModifiedBy>Preferred Customer</cp:lastModifiedBy>
  <dcterms:modified xsi:type="dcterms:W3CDTF">2000-08-01T02:05:24Z</dcterms:modified>
  <cp:revision>26</cp:revision>
  <dc:subject>Rampage Overview</dc:subject>
  <dc:title>Immersion 2000</dc:title>
</cp:coreProperties>
</file>